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A908-0ED9-4721-B5D0-E5A0F10A7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F9D1-8412-4515-BAC2-7C322E757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2FF4-AFFF-4FFB-965F-82E673C51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FE91-393F-4DDB-A69F-F154BDD4F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B4E6E-AB63-48D0-879A-7199647E2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3F10F-BEE5-4780-A84E-7C87999C4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2538D-921D-462C-BDE5-868DF0017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6DA24-6144-421B-A449-22D7C6C68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26162-510E-42CB-8BE9-94264BDE7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2ED9B-B26E-42B3-AE52-3F679F922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2A3EE-F6B2-4E0A-BF5A-768C49DCA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DCFB-AC4D-4C44-A9C7-C5A0F1FE3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2344D-8DA8-492B-8BE6-5310CE410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294E7-B97D-4BB5-9942-CD1E82AEC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6A6A2-AD2F-4868-B667-70A864B97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AB7DD-F6F4-485B-B551-BA95C83E7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0AF97-884A-4839-BE74-889AC29F8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D712-47EC-4A39-BB85-B2D3486F0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CA68-A689-4803-8801-4A69BAA56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7382-7CA4-4DBF-BCC3-4A64E57E3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16A0-8653-478E-B6ED-2CE416AC4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53E5-DF09-41EC-8F15-6605AB170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162F-8C9F-4064-9CBF-88A5131B6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B48C-2982-447C-A87A-EAE55F2E6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3493C-F9B9-4CE2-B9D6-0C023DF7EAD0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443D2-2EB9-4622-A7F3-7B0D336290EA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ELCOME!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971800" y="2971800"/>
            <a:ext cx="37702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howing respect by listening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ying attention when I am talking and when your classmates are asking questions or sharing. Do not put your head down, you might miss someth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rs. McCall-What you can expect from me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thusias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nse of Hum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spec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human being, I make mistakes…we all d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 believe in the constructivist school of teach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 believe in equity not equal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I expect from you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try your be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participa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show respec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be open-mind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Mrs. McCall’s Rules to a Happier Classroom. </a:t>
            </a:r>
            <a:r>
              <a:rPr b="1" lang="en-US" sz="3600" spc="-1" strike="noStrike">
                <a:solidFill>
                  <a:srgbClr val="003366"/>
                </a:solidFill>
                <a:latin typeface="Wingdings"/>
                <a:ea typeface="Wingdings"/>
              </a:rPr>
              <a:t>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My job is to teach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Your job is to learn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only rule is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how respect to me, yourself, your classmat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spec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oks like the following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howing respect when the bell rings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 must be in your seat, ready to begin working on the board assignment when the bell ring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howing respect by being prepared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 must have proper materials (books, pencils, paper, etc) Any homework assignments are due at the beginning of the period to the top tray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veryone must have an English notebook where they keep all their writings. This will be collected periodically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howing respect by knowing when to talk and when to zip it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intain silence during silent work period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5T17:00:07Z</dcterms:created>
  <dc:creator>rebecca</dc:creator>
  <dc:description/>
  <dc:language>en-US</dc:language>
  <cp:lastModifiedBy>Angie</cp:lastModifiedBy>
  <dcterms:modified xsi:type="dcterms:W3CDTF">2009-08-18T06:48:56Z</dcterms:modified>
  <cp:revision>3</cp:revision>
  <dc:subject/>
  <dc:title>Mrs. McCall’s Rules to a Happier Classroom. </dc:title>
</cp:coreProperties>
</file>